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6.gif" ContentType="image/gif"/>
  <Override PartName="/ppt/media/image16.gif" ContentType="image/gif"/>
  <Override PartName="/ppt/media/image1.wmf" ContentType="image/x-wmf"/>
  <Override PartName="/ppt/media/image15.jpeg" ContentType="image/jpeg"/>
  <Override PartName="/ppt/media/image14.gif" ContentType="image/gif"/>
  <Override PartName="/ppt/media/image5.wmf" ContentType="image/x-wmf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BAB-935D-4192-88E8-CD8AB6208A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esentation to revise/introduce simple directions in French KS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u est….? Tournez a droite/a gauche 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– allez tout droit (click to move ghost): tournez a gauche (click to reach pump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get class to stand and play ‘Jacques a dit’ (simon says) with tournez a gauche/ a droite/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e Halloween vocab. Repeat loud, soft, silly voice, scary voice, different voice for eac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point rapidly to each and class tell you what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and ghost moves): tournez a droite (click to make ghost move again): then allez tout droit (final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final one could also be tournez a gauche depending on if you think your class can cope with finding their way around the map that w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ghost moves): tournez a gauche (click to move ghost): allez tout droit (move ghost): tournez a droite (last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: allez tout droit (click): tournez a gauche (last click to get to c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 allez tout droit (click) tournez a gauche (last click to reach wit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CEB-A6EF-4FBD-8497-A2DFDA82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7C9-0784-4007-97C0-509D357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38A-A5E3-442A-A30F-3FA98B8A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4BD-7A3F-43D7-946D-8ACA63AA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2DA1-EA13-409E-AC29-04A2135C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4021-223F-4B64-970A-BC138BD3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97C-6C9A-44D6-981B-5374A9C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534-C3EF-470E-BB0C-80795E4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EDB2-EFBE-45F6-A1C1-26A1876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015-DCDA-4114-87FC-56761A6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244-49B6-405D-8ECA-B68A4F44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93A-C360-4179-935D-4F43B7F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85A7-FC27-4A59-8AE0-808F0FF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F35-D82E-4A23-90ED-D7021D9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A601-4E6A-4F50-8F8A-EDBA0A9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34A3-A561-4AC0-AF89-B85316D4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9281-7065-4009-A91A-3D3E70E1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2013-A197-4188-A741-065319A7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0730-096F-4FBE-AA07-5DC686A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7C0D-28FA-4033-A279-14367AD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4A8D-12C9-4916-BD95-507732EC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9F12-1012-4DC8-8149-4E051E0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3AE-62D6-4A28-ADCF-D47BCE3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FF71-2E72-4861-B13F-A450C51E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E84E-F1EF-450C-98C6-58CFAE4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3102-903F-4F68-8A79-0B8C58C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1117-7D71-483D-891A-3C661C9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8025-D9CD-4C84-9ACE-BA013CD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A857-7767-4C0D-B0BC-51F21670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DBE4-0F52-420E-80D1-ED367368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8AFE-3C1C-4AB3-AAD2-4530F4B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514D-6816-48E1-A59B-7B918662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AF54-19AC-4335-9CF7-8812CE6A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EA5-5C5E-4A3D-8DE5-3CA07FF3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60BB-E8E2-4215-8610-8A1BB8E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E08D-30A2-4968-9AE6-C1B976E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1038-94C6-4CEF-A8BA-97C7555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9136-CA0C-4EDB-A9B0-FEA6658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33EFF-AFE8-427C-9829-C1D83961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0904-8933-4CC9-96D7-68F3FD2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F912-8355-4922-BE5E-26955C8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AF83-E517-410C-B1B9-15774579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7AF1-F1B0-497E-B857-46A8C0D2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1579-5D02-4248-82B7-A2CD257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F0A-5BCC-41B6-BB3E-3434D1E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F07B-0DB0-4009-A1CE-AF0C0D0F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1D63-D418-4417-A5C0-3AD476A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F40B-BE53-4730-AD4A-714F37F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0067-6CAE-406A-8371-F214968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C99D-93D1-4B9A-8DF1-1E2E5B5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B4EB-6B3B-4334-B1F5-E5E668CB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960E-15C7-41D4-BAAA-1FC2F9BA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DDE2-1B7F-4788-AB46-ABE7F3A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1CBF-05C4-41B3-BE18-AE3C74D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7606-3B98-44DF-96D6-E4D9AC0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15F-C2CF-4599-A1BB-ACE2D05E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B4FA-0759-491D-8C6C-6C103183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047BE-5798-490A-B3BD-95EE821E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9BDA-AFD8-4AE8-9D9F-E8F9759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7CF9-84F8-49BE-BA48-8DF3516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82B5C-0F50-48E3-BC73-19E2DB2A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2C1D-6633-4EDE-B868-71DF555F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7D37-6875-4925-B24E-29B9D149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724DA-9D44-4F3E-AB84-6781B73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94A5D-8CB5-478F-92CB-FE9750EA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0354-6638-4C6F-B9CB-03BF713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5AE-B528-4000-9165-6A3AACC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29E99-6F0B-43A1-B0B9-A9729D1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FE64-61F7-443B-BE01-1AF8B567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77D1-0D8C-4592-AED4-10A3A18A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1B8-E308-4E7D-93B8-C47E340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065-70B8-4F4F-9437-0176C09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B248-AA83-49A6-B8A4-A3610B5C0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05D-898B-4C97-A89F-8A1440C654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829-2120-4636-9405-9102BAAA1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3EE-AF28-4E67-B3B3-9C181DA643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96B-91CE-474A-987A-B6299FE8B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72B2-F7EF-40ED-9AC7-C607402E0E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O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 est…..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651800" y="4869000"/>
            <a:ext cx="1492200" cy="1989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citroui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3572 E">
                                      <p:cBhvr>
                                        <p:cTn id="128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3572 L -0.50382 0.33572 E">
                                      <p:cBhvr>
                                        <p:cTn id="132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42920" y="2155680"/>
            <a:ext cx="6624720" cy="3205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rot="10300800">
            <a:off x="3419280" y="5084640"/>
            <a:ext cx="40273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21080" y="1800360"/>
            <a:ext cx="4392360" cy="432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lez tout dro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205080" cy="4491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 rot="16200000">
            <a:off x="792000" y="367920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614600" cy="1755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874880" y="620640"/>
            <a:ext cx="122400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160360" cy="1903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03640" y="278136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5080" y="602136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1080" y="60213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e chat n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3080" y="256536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e fantô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028000" y="1197000"/>
            <a:ext cx="884160" cy="1384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76720" y="58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03144 L 0.05503 -0.20971 E">
                                      <p:cBhvr>
                                        <p:cTn id="60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20971 L 0.42517 -0.20971 E">
                                      <p:cBhvr>
                                        <p:cTn id="64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17 -0.20971 L 0.42517 -0.57688 E">
                                      <p:cBhvr>
                                        <p:cTn id="68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112572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419640" y="595008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0.02891 L 0.05539 -0.23075 E">
                                      <p:cBhvr>
                                        <p:cTn id="74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-0.23075 L -0.25972 -0.23075 E">
                                      <p:cBhvr>
                                        <p:cTn id="78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23075 L -0.25972 -0.51375 E">
                                      <p:cBhvr>
                                        <p:cTn id="82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51375 L -0.10225 -0.51375 E">
                                      <p:cBhvr>
                                        <p:cTn id="86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2532 E">
                                      <p:cBhvr>
                                        <p:cTn id="92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2532 L -0.59045 0.32532 E">
                                      <p:cBhvr>
                                        <p:cTn id="96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45 0.32532 L -0.59826 0.60832 E">
                                      <p:cBhvr>
                                        <p:cTn id="100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826 0.60832 L -0.68489 0.60832 E">
                                      <p:cBhvr>
                                        <p:cTn id="104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sorciè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60832 E">
                                      <p:cBhvr>
                                        <p:cTn id="110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60832 L -0.28333 0.60832 E">
                                      <p:cBhvr>
                                        <p:cTn id="114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60832 L -0.28333 0.81826 E">
                                      <p:cBhvr>
                                        <p:cTn id="118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81826 L -0.36996 0.81826 E">
                                      <p:cBhvr>
                                        <p:cTn id="122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Valued Acer Customer</cp:lastModifiedBy>
  <dcterms:modified xsi:type="dcterms:W3CDTF">2007-10-20T11:48:01Z</dcterms:modified>
  <cp:revision>152</cp:revision>
  <dc:subject/>
  <dc:title>Drag&amp;Drop Macro: Easter Eggs</dc:title>
</cp:coreProperties>
</file>